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04EE-D7DE-4A91-90E6-14F76C67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A973-70C6-41FA-908C-0BF3842A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0CFE-A697-404C-9207-80574BE1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83CA-0788-428C-926A-62D1F07D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861B-5BE1-4030-91B1-73AF0240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F62F-0FC8-4D98-9A67-8C48277A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5127-42F4-4E75-B298-66217456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13FB-FD03-4E3C-8B32-1476579E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AAC5-427F-4FF6-A5FB-A26525E5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06AC-4B0C-4477-8FB6-B266C8E6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E6FE-F839-4F03-8401-B0C6EDC9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44D0-9C40-46A9-9629-D60AA696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CCEC-2442-4BA1-BB8E-5B7706B8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5F90-E271-403B-85EB-2E6FE45D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33EB-B2E9-486E-9747-B856EE2D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3CB5-CB60-4F13-9D10-E61F59EC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765D-BEE1-4D4B-BF49-30F4022E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98EC-55AA-430A-BA22-54D3955E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94BE-1927-4736-BD90-F09F2D3D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C2C8-D72A-436E-8EC1-29EB72EB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299-1E0F-4004-BB0B-0712EBA5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5CC-D9A1-4EC6-89BA-2E135190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E29-BAF5-4B70-8576-63E644DF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EEE-605F-4241-A767-0C3A3A99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8759-C3FF-4DC1-B37F-70ED7A4BF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9182-C72B-4E0A-A58A-567823A1B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Video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hapter 10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Video in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41907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Visual motion helps to convey realism and movemen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88080" y="2057400"/>
            <a:ext cx="3951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Uses of Video in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Video enhances common applications of multimedia.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deo simul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w procedures and interactions that would be dangerous to perform in actu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 video to simulate flight, car racing, and other 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sites and CD-RO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 videos as reference mater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deoconfere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 participants to see each other and witness demonst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Video Quality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Video quality depends on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olution and clarity of individual video fram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rame rate or speed at which video frames appear. Frame rate is measured in frames per second (FPS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is streaming video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reaming video refers to a technique for transferring data so that the browser starts displaying the data before the entire file has been transmitted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Video File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 video file’s format determine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programs can open and play 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space it occupies on a disk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fast it travels over an Internet connec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Common File Format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 most commonly used video file formats ar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 (movie), also known as QuickTim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MV (Windows media video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I (audio video interleave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PEG compresses audio and vide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Video Softwar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re are programs for playing video and audio, as well as editing and distributing video.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umber of video players are available on the Internet for free or at nominal co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deo editing software allows you to edit vide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202360" y="1981080"/>
            <a:ext cx="33098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Video Hardwar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Video hardware include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mcorders, digital or analog, for recording live a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cams, to include live, streaming video in a Web s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ture cards for converting analog video to digital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deo tuners to enable a PC to receive and save television sign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3T22:58:37Z</dcterms:created>
  <dc:creator>Danielle Perkins</dc:creator>
  <dc:description/>
  <dc:language>en-US</dc:language>
  <cp:lastModifiedBy>GLENCOE</cp:lastModifiedBy>
  <dcterms:modified xsi:type="dcterms:W3CDTF">2003-01-04T01:10:06Z</dcterms:modified>
  <cp:revision>8</cp:revision>
  <dc:subject/>
  <dc:title>Chapter 10 Video</dc:title>
</cp:coreProperties>
</file>